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FE16-3EF6-4835-BF7B-5F36B4273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C40C-A7B7-431F-AE02-EBBF50322C6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A60-26E7-4242-8B7D-43676B5A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20B-8F5A-419A-877B-F9FADAD8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CE1-CFCA-4647-8168-8DAC0CA5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DC5-1F15-4C5B-8173-0C41EFB2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ADD-9EFF-491B-AF6E-80833DC4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36B-7E78-4F17-86F9-55E354FE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CF1-7301-41DF-8B31-A7092ED3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5BB-B48B-481C-92C8-58FD7745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4AE-882B-41DF-AF4A-D69F6BDD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A5D-F4AA-41F1-A5A7-0F125377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C69-B62D-47E1-98B4-598AF7FB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100-30EE-4FF6-83F7-6BC1861C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0BC5-4573-4617-9534-82D506AD60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UŽ MNOHA TVÁŘÍ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LITER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Zástupný symbol pro obsah 4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706920" cy="2423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napsal latinsky svůj životopis - Vita Carol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e spisu dává také rady budoucím vladařům a pokolení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epsal úvahy, jak se má chovat správný křesťan, zejména, je-li panovník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tvořil i legendu o svatém Václav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DIPLO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ástupný symbol pro obsah 4" descr=""/>
          <p:cNvPicPr/>
          <p:nvPr/>
        </p:nvPicPr>
        <p:blipFill>
          <a:blip r:embed="rId1"/>
          <a:stretch/>
        </p:blipFill>
        <p:spPr>
          <a:xfrm>
            <a:off x="966960" y="1957320"/>
            <a:ext cx="301932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ěhem svého života a vlády se Karel snažil řešit problémy diplomatickou cesto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éto Karlovy skvělé vlastnosti si všimli už jeho současní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když bylo potřeba, dokázal zařinčet i zbraněmi a použít meče či nátl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CESTOV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681120" y="1600200"/>
            <a:ext cx="35910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již od mládí trávil mnoho času v sedle doprovázen družinou nebo dvorem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vštívil většinu evropských zemí a zanechal tam svoji sto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vakrát byl v Řím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kušenosti získané v zahraničí přenášel do našich zem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ovéPole 5"/>
          <p:cNvSpPr/>
          <p:nvPr/>
        </p:nvSpPr>
        <p:spPr>
          <a:xfrm>
            <a:off x="611280" y="62704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A NÁVŠTĚVĚ VE FRAN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LAD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rožíval bouřlivé mládí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Itálii si užíval života plnými douš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jak sám píše, varován ve snu příhodou hraběte z Vienne (přišel o úd), vnitřně  se obrátil a opustil „bohémský“ přístup k život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RYTÍ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1" descr="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 rytířským otcem Janem rozhodně nezaostal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16 letech svedl první vítěznou bitvu u San Felice, kde byl pasován i na rytíř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také milovníkem rytířských turnajů, při jednom z nich se zřejmě vážně zran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otcem bojoval u Kresč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INTELEKTUÁ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mládí byl vychováván ve Franci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ěl výjimečné vzdělání na tehdejší dob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ěl číst i psá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luvil pěti jazyky: česky, francouzsky, latinsky, italsky, němec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il v Praze vysoké uče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BOŽNÝ ČLOVĚ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1008000" y="1440000"/>
            <a:ext cx="2087640" cy="2944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byl hluboce věřící člověk a svoji vládu provázal s vírou a zbožnost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ochráncem círk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polupracoval s papež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tal se vášnivým sběratelem ostatků svatý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prazskamincovna.cz/i/F640_Karel_IV_s_manzelkou_B.jpg"/>
          <p:cNvPicPr/>
          <p:nvPr/>
        </p:nvPicPr>
        <p:blipFill>
          <a:blip r:embed="rId2"/>
          <a:stretch/>
        </p:blipFill>
        <p:spPr>
          <a:xfrm>
            <a:off x="549360" y="4573440"/>
            <a:ext cx="302400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AKLAD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Zástupný symbol pro obsah 4" descr=""/>
          <p:cNvPicPr/>
          <p:nvPr/>
        </p:nvPicPr>
        <p:blipFill>
          <a:blip r:embed="rId1"/>
          <a:stretch/>
        </p:blipFill>
        <p:spPr>
          <a:xfrm>
            <a:off x="198360" y="1484280"/>
            <a:ext cx="3456000" cy="2305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aložil hrad Karlštejn, Nové Město pražské, klášter Na Slovanech, Kamenný most, vysoké učení, Hladovou zeď, lázně, mnoho kostelů a hra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5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3168720" cy="280692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8" descr=""/>
          <p:cNvPicPr/>
          <p:nvPr/>
        </p:nvPicPr>
        <p:blipFill>
          <a:blip r:embed="rId3"/>
          <a:stretch/>
        </p:blipFill>
        <p:spPr>
          <a:xfrm>
            <a:off x="3492360" y="5013360"/>
            <a:ext cx="2303640" cy="153504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9" descr=""/>
          <p:cNvPicPr/>
          <p:nvPr/>
        </p:nvPicPr>
        <p:blipFill>
          <a:blip r:embed="rId4"/>
          <a:stretch/>
        </p:blipFill>
        <p:spPr>
          <a:xfrm>
            <a:off x="6084720" y="5070600"/>
            <a:ext cx="29530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HOSPODÁ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Zástupný symbol pro obsah 4" descr=""/>
          <p:cNvPicPr/>
          <p:nvPr/>
        </p:nvPicPr>
        <p:blipFill>
          <a:blip r:embed="rId1"/>
          <a:stretch/>
        </p:blipFill>
        <p:spPr>
          <a:xfrm>
            <a:off x="933480" y="1600200"/>
            <a:ext cx="308592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Karel se staral o bezpečnost v ze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Podporoval města, obchod a rozvoj komunikac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Nechal dovézt nové vinné odrůdy, ovocné stromy a nové druhy ry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ECENÁ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ako mecenáš umění inspiroval vznik řady významných uměleckých dě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příklad v kapli svatého Kříže na Karlštejně vzniklo díky jeho podpoře129 obrazů Mistra Theodori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Zástupný symbol pro obsah 6" descr=""/>
          <p:cNvPicPr/>
          <p:nvPr/>
        </p:nvPicPr>
        <p:blipFill>
          <a:blip r:embed="rId1"/>
          <a:stretch/>
        </p:blipFill>
        <p:spPr>
          <a:xfrm>
            <a:off x="825480" y="2046240"/>
            <a:ext cx="330192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ÁTN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227320"/>
            <a:ext cx="4038480" cy="327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vytvořil soustátí Země Koruny české (Čechy, Morava, Slezsko, Lužice a zahraniční léna české koruny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echal zhotovit korunovační klenoty a korunovační řá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ydal listinu Zlatou bulu Karla IV. jako ústavu Svaté říše římské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0:19:43Z</dcterms:modified>
  <cp:revision>46</cp:revision>
  <dc:subject/>
  <dc:title>Prezentace aplikace PowerPoint</dc:title>
</cp:coreProperties>
</file>