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FBA-8A99-4C05-B9C7-C5DBC691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74E2-83D5-4E77-A3B2-CB8FAF29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73DA-D6D8-4C5C-8F2A-3AC88D32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C71-F16C-4403-9CDA-A2D4DA67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7DA4-5CE4-40BA-88E6-5115C18A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FF5-C921-4CC8-B978-29F9E560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FAB-4521-4BE9-B443-7BFD15E4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C02-0593-4BEF-9FD3-9945FBF1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04BE-D13F-45F4-BCE0-D1D08A71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CF2-6CE2-4BE7-A97E-B5453AD1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907-6EDD-4E1F-9B3A-CC572074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450-9525-4B79-81E2-674BD2CA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6AFF-556A-4807-9317-ABD1DA118C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c/cf/KatkaLuc_Stephansdom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1/11/Alzbet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DĚTI KARLA IV.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rel, Jindřich Lucembur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Synové Karla IV. a Alžběty Pomořans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Zemřeli brzy po naroz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Karel *13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Jindřich *1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rkéta ,, mladší " Lucembursk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nželkou norimberského purkrabího Jana III. z Hohenzollern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v necelých čtyřiceti lete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Blanky z Valo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Uherská a chorvatská králov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ňatek s uherským následníkem Ludvík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během morové epidemi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teřin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Blanky z Valo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Jméno dostala podle oblíbené Karlovy světice, na den sv. Kateřiny svedl bitvu u San Felice 25. listopadu roku 133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Česká princezna, rakouská, štýrská, korutanská a kraňská vévodkyně, tyrolská hraběnka a braniborská markraběnk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Provdána za rakouského vévodu Rudolfa IV., poté za Otu V. Bavorskéh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Nakonec opět ovdověl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28000" y="404640"/>
            <a:ext cx="1116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Václa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Syn Karla IV. a Anny Falck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Měl si vzít Annu Svídnick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Václav však umírá ve dvou lete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Annu Svídnickou si tak vezme sám Karel IV.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lžbě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Česká princezna, vévodkyně rakouská, štýrská, korutanská a kraňsk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 Karla IV. a Anny Svídnic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První manželka Habsburka Albrechta II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Umírá bezdětná v 15 lete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ázek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13720" y="3860640"/>
            <a:ext cx="23047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Václav IV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* 1361 - 1419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Český (1363) a římský král (137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Syn Karla IV. a Anny Svídnické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Měl dvě manželky Johannu a Žofii Bavorskou, přesto nezplodil dědic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Záliba v módním oblékání výstředních barev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Slabý král, samotář a vášnivý lovec, holdoval alkoholu - přídomek „Líný“ nebo také „Opilec“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Obrázek 3" descr=""/>
          <p:cNvPicPr/>
          <p:nvPr/>
        </p:nvPicPr>
        <p:blipFill>
          <a:blip r:embed="rId1"/>
          <a:stretch/>
        </p:blipFill>
        <p:spPr>
          <a:xfrm>
            <a:off x="7502400" y="246240"/>
            <a:ext cx="16416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Anna „Česká“ („Good Queen Ann“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Anglická královna, krásná a laskav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nželka angl. krále Richarda II. Plantagene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Neměla dět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íky ní zesílily vzájemné kontakty mezi Anglií a Českým království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na m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"/>
          <p:cNvPicPr/>
          <p:nvPr/>
        </p:nvPicPr>
        <p:blipFill>
          <a:blip r:embed="rId1"/>
          <a:stretch/>
        </p:blipFill>
        <p:spPr>
          <a:xfrm>
            <a:off x="7740720" y="2637000"/>
            <a:ext cx="13939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ikmund Lucembur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yn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Velmi vzdělaný, mluvil 7 jazyky, velmi společenský a měl zálibu v rytířských turnají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V Čechách neoblíbený kvůli Janu Husov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„</a:t>
            </a: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Liška ryšavá“- kvůli zrzavým vlasům a řádu „Draka“ (odměňoval své věrné stoupence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Hlavním cílem byla reforma církve a odstranění papežského schizma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ez dědice, jen dcera Alžběta Lucemburská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Obrázek 3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4400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Jan Zhořelec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yn Karla IV. a Alžběty Pomořansk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entury Gothic"/>
              </a:rPr>
              <a:t>Od otce dostal jako samostatné vévodství Zhořele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entury Gothic"/>
              </a:rPr>
              <a:t>Pomáhal nevlastnímu bratrovi Václavu IV. proti šlechtě i proti vlastnímu bratrovi Zikmundov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 nečekaně v klášteře ve spánk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yl ženatý s Kateřinou Švédsko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ez dědic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56:45Z</dcterms:modified>
  <cp:revision>42</cp:revision>
  <dc:subject/>
  <dc:title>Prezentace aplikace PowerPoint</dc:title>
</cp:coreProperties>
</file>