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1FB-2D5E-4E91-B788-E2D384FE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9C6-2989-4670-B31E-13B59101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00F-F765-434C-AA2A-3BD79C24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486-1D6F-422B-A536-4EEF8462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087-3491-4E33-BA87-36FA504E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505-47A7-488B-8455-90BF9F05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5A6-4740-40E7-8C4A-98BE698C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526-6C39-49A3-B9FF-14746980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68C-C9D8-4035-A057-7474C488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304-1EDC-48F8-B298-4D2110A5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036-4EC3-4808-80CF-758C0078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9D8-0BB2-4E32-8DE2-A42C23D7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2C19-B777-4358-8A39-572D33A243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3/Busta_Blanka_z_Valois.jpg/1024px-Busta_Blanka_z_Valoi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ANŽELKY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Blanka z Valo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cera Karla z Valois a sestra budoucího krále Filipa VI. Z Valois (králem Francie 1328 - 135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oněmecká královna a moravská markraběn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bylo oběma 7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svatbě byli odděleni, setkávají se v 15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luboký citový vz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o krátké nemoci ve věku 32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 pochována v chrámu sv. Víta na Pražském hrad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83664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Fal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á král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jím prastrýcem byl Jindřich Korutansk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ískal území Horního Falce, výborný politický 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neměl o Annu velký záj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írá ve 24 letech, pravděpodobně žalem po synovi Václavovi (zemřel ve dvou letech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alší verze její smrti byl pád z kon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Václav (zemřel ve věku necelých dvou let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Zástupný symbol pro obsah 3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263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Svídni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3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, římská královna a římská císařov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Nejkrásnější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žena v Evropě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ůvodní snoubenka Karlova zemřelého sy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teprve 13 let (Karlovi 37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ři porodu i s novorozencem ve věku 23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o ní mluvil jako o „nejdražší cho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její smrti také velmi truchl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lžběta, Václav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3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3038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Pomořan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599840"/>
            <a:ext cx="8785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4. manželka Karla IV., též známá jako Eliš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nučka polského krále Kazimíra Velikéh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 a římská císař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16 let (Karlovi už 47!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Rázná, neústupná a sebevědomá žena, vynikala velkou fyzickou sílou (lámala podkovy a ohýbala železo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s ní oženil z diplomatických důvo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armonické manžel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žila Karla o 15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a pochována v katedrále svatého Víta po boku Kar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nna (anglická královna), Zikmund, Jan Zhoř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18:39Z</dcterms:modified>
  <cp:revision>35</cp:revision>
  <dc:subject/>
  <dc:title>Prezentace aplikace PowerPoint</dc:title>
</cp:coreProperties>
</file>