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81DF-93A7-46D1-B1C7-C12196B80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EBAD-2CD3-4324-8194-48BD4961A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6D7-EC9E-429A-901A-2098621B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1EE-D120-4D53-B26A-8DA84FD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980-6629-4DD9-AA22-72422BFF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7A7-0EC2-42C9-9681-BA4D53A7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D13-1BB4-4A67-887E-3AB989F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69F-E742-4CF3-A49B-ED8132F6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35A-5A75-496E-A48F-E300F333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E24-E3BD-4C00-8CBA-B6628132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AB0-BE95-46EE-AA46-19A582C7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1F7-5B16-4092-99A1-B7ADA60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8E3-DAD1-4E97-AC62-68A4C959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465-6345-4D03-BED1-9AAE872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B358-777E-4A3B-A404-74E58B4DEF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g.radio.cz/pictures/historie/karel_iv_vaclav_iv_francie3x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b/bd/Karolus_Morav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8/87/Karl_IV_Blanca_Valoi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7/Busta_Karel_IV.jpg/615px-Busta_Karel_I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upload.wikimedia.org/wikipedia/commons/a/ab/Karl_Fourth_Bohemia_Anna_Schweidnitz.jpe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6/Charles_IV-John_Ocko_votive_picture-fragment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7/Kaja4Gelnhausenkodex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9/96/Karolus_rim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YOBRAZENÍ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ÁCLAV IV., KAREL IV. A JO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upload.wikimedia.org/wikipedia/commons/thumb/9/99/Wenceslaus_IV%2C_Charles_IV%2C_Jobst_of_Moravia.jpg/800px-Wenceslaus_IV%2C_Charles_IV%2C_Jobst_of_Moravia.jpg"/>
          <p:cNvPicPr/>
          <p:nvPr/>
        </p:nvPicPr>
        <p:blipFill>
          <a:blip r:embed="rId2"/>
          <a:stretch/>
        </p:blipFill>
        <p:spPr>
          <a:xfrm>
            <a:off x="1332000" y="1598760"/>
            <a:ext cx="6480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LOVA CESTA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Výsledek obrázku pro OBRAZ KARLA IV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73360"/>
            <a:ext cx="8404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A CESTĚ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Karel IV se synem Václavem na cest&amp;ecaron; do Francie"/>
          <p:cNvPicPr/>
          <p:nvPr/>
        </p:nvPicPr>
        <p:blipFill>
          <a:blip r:embed="rId2"/>
          <a:stretch/>
        </p:blipFill>
        <p:spPr>
          <a:xfrm>
            <a:off x="108000" y="2428920"/>
            <a:ext cx="2735280" cy="34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Karel IV se synem Václavem na cest&amp;ecaron; do Francie"/>
          <p:cNvPicPr/>
          <p:nvPr/>
        </p:nvPicPr>
        <p:blipFill>
          <a:blip r:embed="rId3"/>
          <a:stretch/>
        </p:blipFill>
        <p:spPr>
          <a:xfrm>
            <a:off x="6041880" y="2432160"/>
            <a:ext cx="310212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arel IV se synem Václavem na cest&amp;ecaron; do Francie"/>
          <p:cNvPicPr/>
          <p:nvPr/>
        </p:nvPicPr>
        <p:blipFill>
          <a:blip r:embed="rId4"/>
          <a:stretch/>
        </p:blipFill>
        <p:spPr>
          <a:xfrm>
            <a:off x="2987640" y="2557440"/>
            <a:ext cx="2978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ÍSAŘ KAREL VJÍŽDÍ DO CAMBR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upload.wikimedia.org/wikipedia/commons/1/10/Entr%C3%A9e_de_l_empereur_Charles_IV_%C3%A0_Cambrai.jpg"/>
          <p:cNvPicPr/>
          <p:nvPr/>
        </p:nvPicPr>
        <p:blipFill>
          <a:blip r:embed="rId2"/>
          <a:stretch/>
        </p:blipFill>
        <p:spPr>
          <a:xfrm>
            <a:off x="2411280" y="1484280"/>
            <a:ext cx="41054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CÍSAŘ KAREL IV. A FRANCOUZSKÝ KRÁL KAREL V. VE FRANCII - 137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ástupný symbol pro obsah 3" descr=""/>
          <p:cNvPicPr/>
          <p:nvPr/>
        </p:nvPicPr>
        <p:blipFill>
          <a:blip r:embed="rId1"/>
          <a:stretch/>
        </p:blipFill>
        <p:spPr>
          <a:xfrm>
            <a:off x="2776680" y="1600200"/>
            <a:ext cx="359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JAKO MARKRAB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1600200"/>
            <a:ext cx="14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LOVA BUSTA V TRIFORIU KATEDRÁ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5920" y="1965240"/>
            <a:ext cx="39164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MANŽELKOU ANNOU POZDVIHUJÍ OSTATKOVÝ KŘÍ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prazskamincovna.cz/i/F640_Karel_IV_s_manzelkou_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685880"/>
            <a:ext cx="6359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NA VOTIVNÍM OBRAZ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JANA OČKA Y VLAŠ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32086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Zástupný symbol pro obsah 5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36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STATKOVÁ SCÉN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MALBA NA KARLŠTEJ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Ostatková scéna"/>
          <p:cNvPicPr/>
          <p:nvPr/>
        </p:nvPicPr>
        <p:blipFill>
          <a:blip r:embed="rId2"/>
          <a:stretch/>
        </p:blipFill>
        <p:spPr>
          <a:xfrm>
            <a:off x="12600" y="1708200"/>
            <a:ext cx="91314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ŘÍMSKÝ CÍS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628640"/>
            <a:ext cx="3235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ČESKÝ A ŘÍMSKÝ KRÁ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1960" y="1600200"/>
            <a:ext cx="280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19:49:36Z</dcterms:modified>
  <cp:revision>34</cp:revision>
  <dc:subject/>
  <dc:title>Prezentace aplikace PowerPoint</dc:title>
</cp:coreProperties>
</file>