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6496-C8E1-4C40-9B25-41D403BAF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3CE0-4C7E-446E-94AA-D2AE86FB7B9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F3B-FE51-4468-94B3-CA0B1EEB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505-4955-48D0-AFA5-62DC633C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D0A-E8F9-4585-96CD-56654765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7D0-891B-4A32-972B-A323B5A7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B19-0243-4EF0-A402-0D8C2877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A94-F3B3-46ED-9496-FBFFC5E9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D88-4E17-4386-9EF6-0C27E27D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EB0-01B0-4D9F-B8EB-BFB7C0BA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4AE-46F1-4A0E-BD06-614B8571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9A8-18CE-4F75-B962-6D6FA80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EB4-4A91-4D8B-88F6-ED09ECC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059-0650-4A45-B6A1-1010793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D17F-D032-4AA5-A08F-F615CAE18D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UŽ MNOHA TVÁŘÍ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LITER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ástupný symbol pro obsah 4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706920" cy="242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napsal latinsky svůj životopis - Vita Carol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e spisu dává také rady budoucím vladařům a pokolení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epsal úvahy, jak se má chovat správný křesťan, zejména, je-li panovník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tvořil i legendu o svatém Václav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DIPLO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ástupný symbol pro obsah 4" descr=""/>
          <p:cNvPicPr/>
          <p:nvPr/>
        </p:nvPicPr>
        <p:blipFill>
          <a:blip r:embed="rId1"/>
          <a:stretch/>
        </p:blipFill>
        <p:spPr>
          <a:xfrm>
            <a:off x="966960" y="1957320"/>
            <a:ext cx="30193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ěhem svého života a vlády se Karel snažil řešit problémy diplomatickou cesto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éto Karlovy skvělé vlastnosti si všimli už jeho současní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když bylo potřeba, dokázal zařinčet i zbraněmi a použít meče či nátl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CESTOV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35910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již od mládí trávil mnoho času v sedle doprovázen družinou nebo dvorem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vštívil většinu evropských zemí a zanechal tam svoji sto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vakrát byl v Řím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kušenosti získané v zahraničí přenášel do našich zem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5"/>
          <p:cNvSpPr/>
          <p:nvPr/>
        </p:nvSpPr>
        <p:spPr>
          <a:xfrm>
            <a:off x="611280" y="62704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 NÁVŠTĚVĚ VE FRAN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LAD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rožíval bouřlivé mládí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Itálii si užíval života plnými douš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jak sám píše, varován ve snu příhodou hraběte z Vienne (přišel o úd), vnitřně  se obrátil a opustil „bohémský“ přístup k život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RYTÍ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1" descr="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 rytířským otcem Janem rozhodně nezaosta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16 letech svedl první vítěznou bitvu u San Felice, kde byl pasován i na rytíř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také milovníkem rytířských turnajů, při jednom z nich se zřejmě vážně zran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otcem bojoval u Kresč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INTELEKTUÁ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mládí byl vychováván ve Franc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ěl výjimečné vzdělání na tehdejší dob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ěl číst i psá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luvil pěti jazyky: česky, francouzsky, latinsky, italsky, němec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il v Praze vysoké uče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BOŽNÝ ČLOVĚ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1008000" y="1440000"/>
            <a:ext cx="2087640" cy="294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byl hluboce věřící člověk a svoji vládu provázal s vírou a zbožnost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ochráncem círk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polupracoval s papež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tal se vášnivým sběratelem ostatků svatý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prazskamincovna.cz/i/F640_Karel_IV_s_manzelkou_B.jpg"/>
          <p:cNvPicPr/>
          <p:nvPr/>
        </p:nvPicPr>
        <p:blipFill>
          <a:blip r:embed="rId2"/>
          <a:stretch/>
        </p:blipFill>
        <p:spPr>
          <a:xfrm>
            <a:off x="549360" y="4573440"/>
            <a:ext cx="3024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AKLAD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ástupný symbol pro obsah 4" descr=""/>
          <p:cNvPicPr/>
          <p:nvPr/>
        </p:nvPicPr>
        <p:blipFill>
          <a:blip r:embed="rId1"/>
          <a:stretch/>
        </p:blipFill>
        <p:spPr>
          <a:xfrm>
            <a:off x="198360" y="148428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aložil hrad Karlštejn, Nové Město pražské, klášter Na Slovanech, Kamenný most, vysoké učení, Hladovou zeď, lázně, mnoho kostelů a hra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5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168720" cy="280692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8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2303640" cy="15350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9" descr=""/>
          <p:cNvPicPr/>
          <p:nvPr/>
        </p:nvPicPr>
        <p:blipFill>
          <a:blip r:embed="rId4"/>
          <a:stretch/>
        </p:blipFill>
        <p:spPr>
          <a:xfrm>
            <a:off x="6084720" y="5070600"/>
            <a:ext cx="2953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HOSPODÁ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ástupný symbol pro obsah 4" descr=""/>
          <p:cNvPicPr/>
          <p:nvPr/>
        </p:nvPicPr>
        <p:blipFill>
          <a:blip r:embed="rId1"/>
          <a:stretch/>
        </p:blipFill>
        <p:spPr>
          <a:xfrm>
            <a:off x="933480" y="1600200"/>
            <a:ext cx="308592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Karel se staral o bezpečnost v z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Podporoval města, obchod a rozvoj komunikac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Nechal dovézt nové vinné odrůdy, ovocné stromy a nové druhy ry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ECENÁ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ako mecenáš umění inspiroval vznik řady významných uměleckých dě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příklad v kapli svatého Kříže na Karlštejně vzniklo díky jeho podpoře129 obrazů Mistra Theodori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ástupný symbol pro obsah 6" descr=""/>
          <p:cNvPicPr/>
          <p:nvPr/>
        </p:nvPicPr>
        <p:blipFill>
          <a:blip r:embed="rId1"/>
          <a:stretch/>
        </p:blipFill>
        <p:spPr>
          <a:xfrm>
            <a:off x="825480" y="2046240"/>
            <a:ext cx="33019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ÁTN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227320"/>
            <a:ext cx="4038480" cy="32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vytvořil soustátí Země Koruny české (Čechy, Morava, Slezsko, Lužice a zahraniční léna české koruny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echal zhotovit korunovační klenoty a korunovační řá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ydal listinu Zlatou bulu Karla IV. jako ústavu Svaté říše římsk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0:19:43Z</dcterms:modified>
  <cp:revision>46</cp:revision>
  <dc:subject/>
  <dc:title>Prezentace aplikace PowerPoint</dc:title>
</cp:coreProperties>
</file>