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3D5A-6B90-41E9-8E3F-26D727496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7083-BE97-4A6D-8F1D-683F20E9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DB89-244F-4702-877C-F479A4059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4CFA-4243-47B7-AA89-B62BF0256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16AD-789E-48BB-814A-A60C2EA5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FB57-92D5-4BFA-89FF-373B3D33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5FB4-B4C7-48F2-95A1-7F963E18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DC1C-2220-4F74-B78F-85CF0519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34EE-8714-4716-9FFC-F1FF2F12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82F4-18AF-41CF-A72B-22AD4FB1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9C64-F09A-4BCF-8B2B-8200C1C2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4489-0663-409C-B853-00ECAC72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64BD-BAAE-4CA8-9022-F8967DA1C17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c/cf/KatkaLuc_Stephansdom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1/11/Alzbeta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3328920"/>
            <a:ext cx="8497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DĚTI KARLA IV.</a:t>
            </a:r>
            <a:br>
              <a:rPr sz="4800"/>
            </a:br>
            <a:r>
              <a:rPr b="1" lang="cs-CZ" sz="3500" spc="-1" strike="noStrike">
                <a:solidFill>
                  <a:srgbClr val="000000"/>
                </a:solidFill>
                <a:latin typeface="Century Gothic"/>
              </a:rPr>
              <a:t>ODKAZ OTCE VLASTI </a:t>
            </a:r>
            <a:br>
              <a:rPr sz="4800"/>
            </a:b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Mgr. Pavel Vaníč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73264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98989"/>
                </a:solidFill>
                <a:latin typeface="Calibri"/>
              </a:rPr>
              <a:t>Materiál je součástí projektu „Odkaz Otce vlasti“ a je prostřednictvím „Programu na podporu činnosti nestátních neziskových organizací působících v oblasti předškolního, základního a středního vzdělávání v roce 2016“ spolufinancován MŠM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PC01\Desktop\mej\2012 2013\propagace\new logo\LOGO jpg.jpg"/>
          <p:cNvPicPr/>
          <p:nvPr/>
        </p:nvPicPr>
        <p:blipFill>
          <a:blip r:embed="rId1"/>
          <a:stretch/>
        </p:blipFill>
        <p:spPr>
          <a:xfrm>
            <a:off x="395280" y="260280"/>
            <a:ext cx="1865160" cy="2070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ww.nicm.cz/files/user-126/msmt_logo_0.jpg"/>
          <p:cNvPicPr/>
          <p:nvPr/>
        </p:nvPicPr>
        <p:blipFill>
          <a:blip r:embed="rId2"/>
          <a:stretch/>
        </p:blipFill>
        <p:spPr>
          <a:xfrm>
            <a:off x="4284720" y="333360"/>
            <a:ext cx="43257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Karel, Jindřich Lucembursk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Synové Karla IV. a Alžběty Pomořansk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Zemřeli brzy po naroz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Karel *137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Jindřich *13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Markéta Lucemburs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Markéta ,, mladší " Lucemburská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Dcera Karla IV. a Alžběty Pomořanské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Manželkou norimberského purkrabího Jana III. z Hohenzollern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Zemřela v necelých čtyřiceti letec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Markéta Lucemburs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Dcera Karla IV. a Blanky z Valoi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Uherská a chorvatská královn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Sňatek s uherským následníkem Ludvík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Zemřela během morové epidemi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Kateřina Lucemburs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Dcera Karla IV. a Blanky z Valoi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Jméno dostala podle oblíbené Karlovy světice, na den sv. Kateřiny svedl bitvu u San Felice 25. listopadu roku 133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Česká princezna, rakouská, štýrská, korutanská a kraňská vévodkyně, tyrolská hraběnka a braniborská markraběnk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Provdána za rakouského vévodu Rudolfa IV., poté za Otu V. Bavorskéh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Nakonec opět ovdověl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28000" y="404640"/>
            <a:ext cx="111600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Václa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Syn Karla IV. a Anny Falck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Měl si vzít Annu Svídnicko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Václav však umírá ve dvou lete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Annu Svídnickou si tak vezme sám Karel IV.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Alžběta Lucemburs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Česká princezna, vévodkyně rakouská, štýrská, korutanská a kraňská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Dcera  Karla IV. a Anny Svídnické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První manželka Habsburka Albrechta II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Umírá bezdětná v 15 letec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Obrázek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13720" y="3860640"/>
            <a:ext cx="230472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Václav IV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entury Gothic"/>
              </a:rPr>
              <a:t>* 1361 - 1419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entury Gothic"/>
              </a:rPr>
              <a:t>Český (1363) a římský král (1376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entury Gothic"/>
              </a:rPr>
              <a:t>Syn Karla IV. a Anny Svídnické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entury Gothic"/>
              </a:rPr>
              <a:t>Měl dvě manželky Johannu a Žofii Bavorskou, přesto nezplodil dědice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entury Gothic"/>
              </a:rPr>
              <a:t>Záliba v módním oblékání výstředních barev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entury Gothic"/>
              </a:rPr>
              <a:t>Slabý král, samotář a vášnivý lovec, holdoval alkoholu - přídomek „Líný“ nebo také „Opilec“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Obrázek 3" descr=""/>
          <p:cNvPicPr/>
          <p:nvPr/>
        </p:nvPicPr>
        <p:blipFill>
          <a:blip r:embed="rId1"/>
          <a:stretch/>
        </p:blipFill>
        <p:spPr>
          <a:xfrm>
            <a:off x="7502400" y="246240"/>
            <a:ext cx="164160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Anna Lucemburs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Dcera Karla IV. a Alžběty Pomořanské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Anna „Česká“ („Good Queen Ann“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Anglická královna, krásná a laskavá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Manželka angl. krále Richarda II. Plantagene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Neměla dět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Díky ní zesílily vzájemné kontakty mezi Anglií a Českým království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Zemřela na m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Obrázek 3" descr=""/>
          <p:cNvPicPr/>
          <p:nvPr/>
        </p:nvPicPr>
        <p:blipFill>
          <a:blip r:embed="rId1"/>
          <a:stretch/>
        </p:blipFill>
        <p:spPr>
          <a:xfrm>
            <a:off x="7740720" y="2637000"/>
            <a:ext cx="139392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Zikmund Lucembursk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Syn Karla IV. a Alžběty Pomořanské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Velmi vzdělaný, mluvil 7 jazyky, velmi společenský a měl zálibu v rytířských turnajíc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V Čechách neoblíbený kvůli Janu Husov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„</a:t>
            </a: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Liška ryšavá“- kvůli zrzavým vlasům a řádu „Draka“ (odměňoval své věrné stoupence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Hlavním cílem byla reforma církve a odstranění papežského schizmat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Bez dědice, jen dcera Alžběta Lucemburská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Obrázek 3" descr=""/>
          <p:cNvPicPr/>
          <p:nvPr/>
        </p:nvPicPr>
        <p:blipFill>
          <a:blip r:embed="rId1"/>
          <a:stretch/>
        </p:blipFill>
        <p:spPr>
          <a:xfrm>
            <a:off x="7524720" y="1268280"/>
            <a:ext cx="144000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Jan Zhořeleck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Syn Karla IV. a Alžběty Pomořansk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entury Gothic"/>
              </a:rPr>
              <a:t>Od otce dostal jako samostatné vévodství Zhořele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entury Gothic"/>
              </a:rPr>
              <a:t>Pomáhal nevlastnímu bratrovi Václavu IV. proti šlechtě i proti vlastnímu bratrovi Zikmundov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Zemřel nečekaně v klášteře ve spánk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Byl ženatý s Kateřinou Švédsko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Bez dědiců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8:41:02Z</dcterms:created>
  <dc:creator>PC01</dc:creator>
  <dc:description/>
  <dc:language>en-US</dc:language>
  <cp:lastModifiedBy>vanicek</cp:lastModifiedBy>
  <dcterms:modified xsi:type="dcterms:W3CDTF">2016-12-14T21:56:45Z</dcterms:modified>
  <cp:revision>42</cp:revision>
  <dc:subject/>
  <dc:title>Prezentace aplikace PowerPoint</dc:title>
</cp:coreProperties>
</file>