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C5A-2997-4F5D-9792-88478671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92E-FF35-47B0-B8B1-45ECA0FE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5C5-2B2B-4A7F-A8C3-BAB39292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AC9-2082-4E94-A7C1-3431B773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D30-700E-4AF5-8474-DC4A2C12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F1C-6831-41BA-B757-FA1AEA1B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1B0-9DED-464B-BD80-09D85E08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B23-A61F-4A85-9039-C86056D8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A91-9F2F-4C73-BB4D-A36662D6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A37-F6F7-4E97-9EEA-551663ED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49B-FC80-4C24-B915-91EC09F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E7D-952E-4DAC-B77A-495FE06E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E170-0943-4AB4-B6A1-F08F08C08A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3/Busta_Blanka_z_Valois.jpg/1024px-Busta_Blanka_z_Valoi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ANŽELKY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Blanka z Valo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cera Karla z Valois a sestra budoucího krále Filipa VI. Z Valois (králem Francie 1328 - 135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oněmecká královna a moravská markraběn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bylo oběma 7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svatbě byli odděleni, setkávají se v 15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luboký citový vz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o krátké nemoci ve věku 32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 pochována v chrámu sv. Víta na Pražském hrad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83664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Fal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á král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jím prastrýcem byl Jindřich Korutansk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ískal území Horního Falce, výborný politický 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neměl o Annu velký záj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írá ve 24 letech, pravděpodobně žalem po synovi Václavovi (zemřel ve dvou letech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alší verze její smrti byl pád z ko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Václav (zemřel ve věku necelých dvou let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ástupný symbol pro obsah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263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Svídni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3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, římská královna a římská císařov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Nejkrásnější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žena v Evropě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ůvodní snoubenka Karlova zemřelého sy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teprve 13 let (Karlovi 37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ři porodu i s novorozencem ve věku 23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o ní mluvil jako o „nejdražší cho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její smrti také velmi truchl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lžběta, Václav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3038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Pomořan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599840"/>
            <a:ext cx="878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4. manželka Karla IV., též známá jako Eliš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nučka polského krále Kazimíra Velikéh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 a římská císař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16 let (Karlovi už 47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Rázná, neústupná a sebevědomá žena, vynikala velkou fyzickou sílou (lámala podkovy a ohýbala železo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s ní oženil z diplomatických důvo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armonické manžel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žila Karla o 15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a pochována v katedrále svatého Víta po boku Kar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nna (anglická královna), Zikmund, Jan Zhoř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18:39Z</dcterms:modified>
  <cp:revision>35</cp:revision>
  <dc:subject/>
  <dc:title>Prezentace aplikace PowerPoint</dc:title>
</cp:coreProperties>
</file>