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3A5F-150B-452C-853F-7C2EEDF92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stěnná malba, kaple sv. Kateřiny na Karlštejně (kolem 135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DEBE-8718-4F33-BD95-1CF0378DD9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768E-F71B-4DE5-8C2A-812E35A4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83F2-93E6-48A9-9950-7D9F298D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7C91-6A76-43A5-8959-BBBE5ED03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FFBC-DD4A-4319-AB8D-74F3AB206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BE58-53E3-41D2-AF27-F61B429B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742D-344A-4E90-B900-616CCDA9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F948-33BF-494D-82B1-F0437CB7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BC37-CC67-484D-9048-C3E69D1A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295C-9C62-4760-946F-75762093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0623-41AF-4D03-A061-455FDCE4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9CAB-BA34-4E9B-B1A2-9BC8C1BA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C1E1-46E2-47BA-8BB3-08EFABB6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979A-51B6-4E9D-BE2F-A780FFC7FB5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img.radio.cz/pictures/historie/karel_iv_vaclav_iv_francie3x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b/bd/Karolus_Moravius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8/87/Karl_IV_Blanca_Valois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thumb/4/47/Busta_Karel_IV.jpg/615px-Busta_Karel_IV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s://upload.wikimedia.org/wikipedia/commons/a/ab/Karl_Fourth_Bohemia_Anna_Schweidnitz.jpe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1/16/Charles_IV-John_Ocko_votive_picture-fragment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c/c7/Kaja4Gelnhausenkodex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9/96/Karolus_rim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3328920"/>
            <a:ext cx="8497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VYOBRAZENÍ KARLA IV.  </a:t>
            </a:r>
            <a:br>
              <a:rPr sz="4800"/>
            </a:br>
            <a:r>
              <a:rPr b="1" lang="cs-CZ" sz="3500" spc="-1" strike="noStrike">
                <a:solidFill>
                  <a:srgbClr val="000000"/>
                </a:solidFill>
                <a:latin typeface="Century Gothic"/>
              </a:rPr>
              <a:t>ODKAZ OTCE VLASTI </a:t>
            </a:r>
            <a:br>
              <a:rPr sz="4800"/>
            </a:b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Mgr. Pavel Vaníč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573264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98989"/>
                </a:solidFill>
                <a:latin typeface="Calibri"/>
              </a:rPr>
              <a:t>Materiál je součástí projektu „Odkaz Otce vlasti“ a je prostřednictvím „Programu na podporu činnosti nestátních neziskových organizací působících v oblasti předškolního, základního a středního vzdělávání v roce 2016“ spolufinancován MŠM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PC01\Desktop\mej\2012 2013\propagace\new logo\LOGO jpg.jpg"/>
          <p:cNvPicPr/>
          <p:nvPr/>
        </p:nvPicPr>
        <p:blipFill>
          <a:blip r:embed="rId1"/>
          <a:stretch/>
        </p:blipFill>
        <p:spPr>
          <a:xfrm>
            <a:off x="395280" y="260280"/>
            <a:ext cx="1865160" cy="207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nicm.cz/files/user-126/msmt_logo_0.jpg"/>
          <p:cNvPicPr/>
          <p:nvPr/>
        </p:nvPicPr>
        <p:blipFill>
          <a:blip r:embed="rId2"/>
          <a:stretch/>
        </p:blipFill>
        <p:spPr>
          <a:xfrm>
            <a:off x="4284720" y="333360"/>
            <a:ext cx="43257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VÁCLAV IV., KAREL IV. A JOŠ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s://upload.wikimedia.org/wikipedia/commons/thumb/9/99/Wenceslaus_IV%2C_Charles_IV%2C_Jobst_of_Moravia.jpg/800px-Wenceslaus_IV%2C_Charles_IV%2C_Jobst_of_Moravia.jpg"/>
          <p:cNvPicPr/>
          <p:nvPr/>
        </p:nvPicPr>
        <p:blipFill>
          <a:blip r:embed="rId2"/>
          <a:stretch/>
        </p:blipFill>
        <p:spPr>
          <a:xfrm>
            <a:off x="1332000" y="1598760"/>
            <a:ext cx="64800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KARLOVA CESTA DO FRANC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Výsledek obrázku pro OBRAZ KARLA IV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1773360"/>
            <a:ext cx="84042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NA CESTĚ DO FRANC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Karel IV se synem Václavem na cest&amp;ecaron; do Francie"/>
          <p:cNvPicPr/>
          <p:nvPr/>
        </p:nvPicPr>
        <p:blipFill>
          <a:blip r:embed="rId2"/>
          <a:stretch/>
        </p:blipFill>
        <p:spPr>
          <a:xfrm>
            <a:off x="108000" y="2428920"/>
            <a:ext cx="2735280" cy="3462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Karel IV se synem Václavem na cest&amp;ecaron; do Francie"/>
          <p:cNvPicPr/>
          <p:nvPr/>
        </p:nvPicPr>
        <p:blipFill>
          <a:blip r:embed="rId3"/>
          <a:stretch/>
        </p:blipFill>
        <p:spPr>
          <a:xfrm>
            <a:off x="6041880" y="2432160"/>
            <a:ext cx="3102120" cy="3384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Karel IV se synem Václavem na cest&amp;ecaron; do Francie"/>
          <p:cNvPicPr/>
          <p:nvPr/>
        </p:nvPicPr>
        <p:blipFill>
          <a:blip r:embed="rId4"/>
          <a:stretch/>
        </p:blipFill>
        <p:spPr>
          <a:xfrm>
            <a:off x="2987640" y="2557440"/>
            <a:ext cx="297828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CÍSAŘ KAREL VJÍŽDÍ DO CAMBRA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s://upload.wikimedia.org/wikipedia/commons/1/10/Entr%C3%A9e_de_l_empereur_Charles_IV_%C3%A0_Cambrai.jpg"/>
          <p:cNvPicPr/>
          <p:nvPr/>
        </p:nvPicPr>
        <p:blipFill>
          <a:blip r:embed="rId2"/>
          <a:stretch/>
        </p:blipFill>
        <p:spPr>
          <a:xfrm>
            <a:off x="2411280" y="1484280"/>
            <a:ext cx="410544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CÍSAŘ KAREL IV. A FRANCOUZSKÝ KRÁL KAREL V. VE FRANCII - 137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Zástupný symbol pro obsah 3" descr=""/>
          <p:cNvPicPr/>
          <p:nvPr/>
        </p:nvPicPr>
        <p:blipFill>
          <a:blip r:embed="rId1"/>
          <a:stretch/>
        </p:blipFill>
        <p:spPr>
          <a:xfrm>
            <a:off x="2776680" y="1600200"/>
            <a:ext cx="3590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KAREL JAKO MARKRAB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28960" y="1600200"/>
            <a:ext cx="1486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KAREL IV. S ŽENOU BLANK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1600" y="1600200"/>
            <a:ext cx="3520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KARLOVA BUSTA V TRIFORIU KATEDRÁL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55920" y="1965240"/>
            <a:ext cx="3916440" cy="41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KAREL IV. S MANŽELKOU ANNOU POZDVIHUJÍ OSTATKOVÝ KŘÍ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www.prazskamincovna.cz/i/F640_Karel_IV_s_manzelkou_B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1685880"/>
            <a:ext cx="63594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NA VOTIVNÍM OBRAZU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JANA OČKA Y VLAŠIM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700280"/>
            <a:ext cx="320868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Zástupný symbol pro obsah 5" descr=""/>
          <p:cNvPicPr/>
          <p:nvPr/>
        </p:nvPicPr>
        <p:blipFill>
          <a:blip r:embed="rId3"/>
          <a:stretch/>
        </p:blipFill>
        <p:spPr>
          <a:xfrm>
            <a:off x="5364000" y="1700280"/>
            <a:ext cx="2367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OSTATKOVÁ SCÉNA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MALBA NA KARLŠTEJN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Ostatková scéna"/>
          <p:cNvPicPr/>
          <p:nvPr/>
        </p:nvPicPr>
        <p:blipFill>
          <a:blip r:embed="rId2"/>
          <a:stretch/>
        </p:blipFill>
        <p:spPr>
          <a:xfrm>
            <a:off x="12600" y="1708200"/>
            <a:ext cx="913140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GELNHAUSENSKÝ KODEX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KAREL JAKO ŘÍMSKÝ CÍSA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1628640"/>
            <a:ext cx="323532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GELNHAUSENSKÝ KODEX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KAREL JAKO ČESKÝ A ŘÍMSKÝ KRÁ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71960" y="1600200"/>
            <a:ext cx="2800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8:41:02Z</dcterms:created>
  <dc:creator>PC01</dc:creator>
  <dc:description/>
  <dc:language>en-US</dc:language>
  <cp:lastModifiedBy>vanicek</cp:lastModifiedBy>
  <dcterms:modified xsi:type="dcterms:W3CDTF">2016-12-14T19:49:36Z</dcterms:modified>
  <cp:revision>34</cp:revision>
  <dc:subject/>
  <dc:title>Prezentace aplikace PowerPoint</dc:title>
</cp:coreProperties>
</file>