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BD6-0888-4D55-8D1C-59AE47A1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E52-222A-4B9B-9E48-3AF5387F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939-41C6-4F01-A533-439FCEEC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0DF-2AAA-4C99-B005-68BD7E49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473-235E-4182-94FB-92FF866A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5D9-2636-4247-9E23-63C892BD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046-F41B-4F84-9CA2-34AACE0E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F98-50B2-4356-B358-56F521DE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D04-50D5-4392-BBA3-292F9A71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AE1-46D6-4061-84CB-7042B27D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C6F-610A-45CB-99A5-4C1C8C06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C57-7A67-441A-967F-8FA9B3D6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943-8D77-43BC-99CA-89CB171D44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3/Busta_Blanka_z_Valois.jpg/1024px-Busta_Blanka_z_Valoi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ANŽELKY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Blanka z Valo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cera Karla z Valois a sestra budoucího krále Filipa VI. Z Valois (králem Francie 1328 - 135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oněmecká královna a moravská markraběn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bylo oběma 7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svatbě byli odděleni, setkávají se v 15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luboký citový vz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o krátké nemoci ve věku 32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 pochována v chrámu sv. Víta na Pražském hrad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83664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Fal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á král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jím prastrýcem byl Jindřich Korutansk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ískal území Horního Falce, výborný politický 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neměl o Annu velký záj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írá ve 24 letech, pravděpodobně žalem po synovi Václavovi (zemřel ve dvou letech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alší verze její smrti byl pád z kon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Václav (zemřel ve věku necelých dvou let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ástupný symbol pro obsah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263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Svídni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3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, římská královna a římská císařov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Nejkrásnější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žena v Evropě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ůvodní snoubenka Karlova zemřelého sy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teprve 13 let (Karlovi 37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ři porodu i s novorozencem ve věku 23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o ní mluvil jako o „nejdražší cho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její smrti také velmi truchl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lžběta, Václav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3038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Pomořan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599840"/>
            <a:ext cx="878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4. manželka Karla IV., též známá jako Eliš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nučka polského krále Kazimíra Velikéh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 a římská císař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16 let (Karlovi už 47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Rázná, neústupná a sebevědomá žena, vynikala velkou fyzickou sílou (lámala podkovy a ohýbala železo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s ní oženil z diplomatických důvo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armonické manžel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žila Karla o 15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a pochována v katedrále svatého Víta po boku Kar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nna (anglická královna), Zikmund, Jan Zhoř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18:39Z</dcterms:modified>
  <cp:revision>35</cp:revision>
  <dc:subject/>
  <dc:title>Prezentace aplikace PowerPoint</dc:title>
</cp:coreProperties>
</file>