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D2A-E218-4851-A0D4-2F189C8C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AFC-C4CA-4731-A303-4ED818B2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D70-2B68-4CB8-9C4B-0899DDFA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B7F-580A-4B91-A56F-31D7F562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A90-A629-400C-815A-0AA9C653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B46-8842-43AD-8E58-2585B96E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A43-8D52-4397-85A6-5815B3A2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9DE4-571E-4252-B837-52EF651A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515-6A44-4788-B0FB-605F3CC4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F33-0E98-42BA-8C29-6B542C63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0E95-C412-4A17-8BB0-B3369572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C4A-84FA-4709-8F2F-4D3A2128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06F9-87E4-485B-A830-3523A2322A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VÝZNAMNÁ ŽIVOTNÍ DATA KARLA IV.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7 – ČESKÝM KRÁ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4000" y="1628640"/>
            <a:ext cx="4319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lavná korunovace Karla a Blanky v Praz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y zhotoveny korunovační klenoty a korunovační řád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založen klášter Na Slovanech (Emauzský klášter) pro obnovu cyrilometodějské tradice a staroslověnské liturgi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en i kostel P. Mari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Obrázek 5" descr=""/>
          <p:cNvPicPr/>
          <p:nvPr/>
        </p:nvPicPr>
        <p:blipFill>
          <a:blip r:embed="rId1"/>
          <a:stretch/>
        </p:blipFill>
        <p:spPr>
          <a:xfrm>
            <a:off x="5076720" y="4673520"/>
            <a:ext cx="3275280" cy="218448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6" descr=""/>
          <p:cNvPicPr/>
          <p:nvPr/>
        </p:nvPicPr>
        <p:blipFill>
          <a:blip r:embed="rId2"/>
          <a:stretch/>
        </p:blipFill>
        <p:spPr>
          <a:xfrm>
            <a:off x="8078760" y="6480"/>
            <a:ext cx="1047600" cy="1690560"/>
          </a:xfrm>
          <a:prstGeom prst="rect">
            <a:avLst/>
          </a:prstGeom>
          <a:ln w="0">
            <a:noFill/>
          </a:ln>
        </p:spPr>
      </p:pic>
      <p:pic>
        <p:nvPicPr>
          <p:cNvPr id="76" name="Zástupný symbol pro obsah 8" descr=""/>
          <p:cNvPicPr/>
          <p:nvPr/>
        </p:nvPicPr>
        <p:blipFill>
          <a:blip r:embed="rId3"/>
          <a:stretch/>
        </p:blipFill>
        <p:spPr>
          <a:xfrm>
            <a:off x="4694400" y="1773360"/>
            <a:ext cx="40384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8 – ZAKLADATELSKÝ R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tento rok Karel IV.  poukázal, jak mu velmi záleží na Praze jako hlavním městě Zemí Koruny české a reprezentativním sídle římského krá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eno: Nové Město pražské, Karlova univerzita, hrad Karlštejn a přestavěn Vyšehra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Zástupný symbol pro obsah 4" descr=""/>
          <p:cNvPicPr/>
          <p:nvPr/>
        </p:nvPicPr>
        <p:blipFill>
          <a:blip r:embed="rId1"/>
          <a:stretch/>
        </p:blipFill>
        <p:spPr>
          <a:xfrm>
            <a:off x="4732200" y="1268280"/>
            <a:ext cx="3780000" cy="2637000"/>
          </a:xfrm>
          <a:prstGeom prst="rect">
            <a:avLst/>
          </a:prstGeom>
          <a:ln w="0">
            <a:noFill/>
          </a:ln>
        </p:spPr>
      </p:pic>
      <p:pic>
        <p:nvPicPr>
          <p:cNvPr id="80" name="Obrázek 5" descr=""/>
          <p:cNvPicPr/>
          <p:nvPr/>
        </p:nvPicPr>
        <p:blipFill>
          <a:blip r:embed="rId2"/>
          <a:stretch/>
        </p:blipFill>
        <p:spPr>
          <a:xfrm>
            <a:off x="5908680" y="4057560"/>
            <a:ext cx="20844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55 – CÍSAŘSKÁ KORUNOV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IV. podnikl i s manželkou Annou Svídnickou korunovační jízdu do Říma, kde byli oba korunováni kardinálem Pierrem de Colombier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ásledujícího roku 1356 vydal pro Říši důležitou listinu: Zlatou bulu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Zástupný symbol pro obsah 4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3753000" cy="244944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1" descr=""/>
          <p:cNvPicPr/>
          <p:nvPr/>
        </p:nvPicPr>
        <p:blipFill>
          <a:blip r:embed="rId2"/>
          <a:stretch/>
        </p:blipFill>
        <p:spPr>
          <a:xfrm>
            <a:off x="5651640" y="4149720"/>
            <a:ext cx="23097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61 – NAROZENÍ DĚD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lovi bylo čtyřicet pět let, když se jeho třetí ženě Anně Svídnické narodil vytoužený a vymodlený dědic trůnu - 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Václav IV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nešetřil a připravil velké oslavy v jeho oblíbeném Norimber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ástupný symbol pro obsah 4" descr=""/>
          <p:cNvPicPr/>
          <p:nvPr/>
        </p:nvPicPr>
        <p:blipFill>
          <a:blip r:embed="rId1"/>
          <a:stretch/>
        </p:blipFill>
        <p:spPr>
          <a:xfrm>
            <a:off x="5270400" y="2808360"/>
            <a:ext cx="27939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78 – ZRANĚNÍ, SM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14839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 pádu utrpěl zlomeninu krčku stehenní kos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29. listopadu umírá Karel v Praze na zápal plic v šedesáti dvou lete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i pohřební řeči Vojtěch Raňkův z Ježova označil Karla za „OTCE VLASTI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15. prosince je Karel pohřben v královské hrobce v chrámu sv. Ví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Zástupný symbol pro obsah 4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16 – ROK NARO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áclav (Karel) se narodil 14. května 1316 v Praze v domě u Kamenného zvonu na Staroměstském náměstí mladému královskému páru Elišce Přemyslovně a Janu Lucemburském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Zástupný symbol pro obsah 6" descr=""/>
          <p:cNvPicPr/>
          <p:nvPr/>
        </p:nvPicPr>
        <p:blipFill>
          <a:blip r:embed="rId1"/>
          <a:stretch/>
        </p:blipFill>
        <p:spPr>
          <a:xfrm>
            <a:off x="4971960" y="1600200"/>
            <a:ext cx="3390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23 – VÝCHOVA VE FRANC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Teprve sedmiletý Václav byl povolán otcem Janem do Paříže na královský dvůr za účelem výchovy a vzdělán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zde i oženěn s Blankou z Valoi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i biřmování přijal jméno Karel po strýci - francouzském králi Karlu IV. z Valoi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Zástupný symbol pro obsah 4" descr=""/>
          <p:cNvPicPr/>
          <p:nvPr/>
        </p:nvPicPr>
        <p:blipFill>
          <a:blip r:embed="rId1"/>
          <a:stretch/>
        </p:blipFill>
        <p:spPr>
          <a:xfrm>
            <a:off x="4789440" y="1600200"/>
            <a:ext cx="375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31 - ITALSKÉ TAŽ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volán otcem do Itálie, kde Karel získal první bojové zkušenosti a vybojoval i první vítěznou bitvu u San Felice („ u Svaté Štěstěny“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de pasován na rytíř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menován správcem lucemburských drža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ískává i důležité politické zkušenos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4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33 – MARKRABĚ MORAV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Zástupný symbol pro obsah 3" descr=""/>
          <p:cNvPicPr/>
          <p:nvPr/>
        </p:nvPicPr>
        <p:blipFill>
          <a:blip r:embed="rId1"/>
          <a:stretch/>
        </p:blipFill>
        <p:spPr>
          <a:xfrm>
            <a:off x="1733400" y="1600200"/>
            <a:ext cx="148608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 deseti letech přijíždí zpátky do Čech, ale země se nachází v krizi a úpadku, královské hrady jsou zastavené v rukou šlecht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Energický a ambiciózní Karel se pouští do tvrdé práce, vytváří si dvůr v Praze, dohlíží na bezpečnost a  pořádek v zemi a vykupuje zpět královské hrad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4 – PRAŽSKÉ ARCIBISKUPS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íky Karlovým konexím s Pierrem de Rosieres za pobytu v Paříži – nyní papežem Klementem VI. - vzniká v Praze arcibiskupstv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rvním arcibiskupem byl jmenován Karlův blízký přítel Arnošt z Pardubic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ástupný symbol pro obsah 4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012760" cy="2313000"/>
          </a:xfrm>
          <a:prstGeom prst="rect">
            <a:avLst/>
          </a:prstGeom>
          <a:ln w="0">
            <a:noFill/>
          </a:ln>
        </p:spPr>
      </p:pic>
      <p:pic>
        <p:nvPicPr>
          <p:cNvPr id="60" name="Obrázek 6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3267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STAVBA KATEDRÁ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916440" cy="412740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2" descr=""/>
          <p:cNvPicPr/>
          <p:nvPr/>
        </p:nvPicPr>
        <p:blipFill>
          <a:blip r:embed="rId2"/>
          <a:stretch/>
        </p:blipFill>
        <p:spPr>
          <a:xfrm>
            <a:off x="4143240" y="3246480"/>
            <a:ext cx="2800440" cy="257004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3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2438280" cy="3666960"/>
          </a:xfrm>
          <a:prstGeom prst="rect">
            <a:avLst/>
          </a:prstGeom>
          <a:ln w="0">
            <a:noFill/>
          </a:ln>
        </p:spPr>
      </p:pic>
      <p:sp>
        <p:nvSpPr>
          <p:cNvPr id="65" name="TextovéPole 4"/>
          <p:cNvSpPr/>
          <p:nvPr/>
        </p:nvSpPr>
        <p:spPr>
          <a:xfrm>
            <a:off x="4211640" y="6093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ATYÁŠ Z ARRAS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REL IV. S ŽENOU BLANK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Zástupný symbol pro obsah 3" descr=""/>
          <p:cNvPicPr/>
          <p:nvPr/>
        </p:nvPicPr>
        <p:blipFill>
          <a:blip r:embed="rId1"/>
          <a:stretch/>
        </p:blipFill>
        <p:spPr>
          <a:xfrm>
            <a:off x="2811600" y="1600200"/>
            <a:ext cx="352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6 – ŘÍMSKÝM KRÁ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Lucemburkové triumfují!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rál Jan, příbuzný arcibiskup Balduin Trevírský i papežská kurie dopomohli Karlovi k volbě římským králem!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lepý král Jan hrdinně padl v krvavé bitvě u Kresčaku dne 26.8. 1346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se tak stává i 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českým</a:t>
            </a: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 král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Zástupný symbol pro obsah 5" descr=""/>
          <p:cNvPicPr/>
          <p:nvPr/>
        </p:nvPicPr>
        <p:blipFill>
          <a:blip r:embed="rId1"/>
          <a:stretch/>
        </p:blipFill>
        <p:spPr>
          <a:xfrm>
            <a:off x="6084720" y="4437000"/>
            <a:ext cx="2438640" cy="2063880"/>
          </a:xfrm>
          <a:prstGeom prst="rect">
            <a:avLst/>
          </a:prstGeom>
          <a:ln w="0">
            <a:noFill/>
          </a:ln>
        </p:spPr>
      </p:pic>
      <p:pic>
        <p:nvPicPr>
          <p:cNvPr id="71" name="Zástupný symbol pro obsah 8" descr=""/>
          <p:cNvPicPr/>
          <p:nvPr/>
        </p:nvPicPr>
        <p:blipFill>
          <a:blip r:embed="rId2"/>
          <a:stretch/>
        </p:blipFill>
        <p:spPr>
          <a:xfrm>
            <a:off x="6372360" y="1600200"/>
            <a:ext cx="17460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02:55Z</dcterms:modified>
  <cp:revision>52</cp:revision>
  <dc:subject/>
  <dc:title>Prezentace aplikace PowerPoint</dc:title>
</cp:coreProperties>
</file>