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269-8806-4AA6-A8A5-B7D7F750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C8A-7A94-41E3-8836-F3C717C1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FD7-49F7-4F3D-B545-B41E354A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2A1-5AB6-4576-BE96-A2D98C24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09A-DBB1-4C6C-A0FB-5C05B4E9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C02-E3A5-4CED-9060-4AC92047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EB1-8B66-415D-A1B1-3B48CABD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476-EC03-43E9-828D-8EFAA405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8A6-0BFF-41E1-809A-A064535E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C65-F115-4093-8F43-6F08BA2B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9CD-2BCA-428B-BE81-9DE2AD8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97D-4751-49D2-B647-D3E6E82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5062-2A9C-44B3-9267-6422F8FF7B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f/KatkaLuc_Stephansdo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1/Alzbet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DĚTI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, Jindřich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ové Karla IV. a Alžběty Pomořans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Zemřeli brzy po na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Karel *13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Jindřich *1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rkéta ,, mladší " Lucembur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ou norimberského purkrabího Jana III. z Hohenzoller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v necelých čtyřiceti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herská a chorvatská králov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ňatek s uherským následníkem Ludv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během morové epidem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teři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Jméno dostala podle oblíbené Karlovy světice, na den sv. Kateřiny svedl bitvu u San Felice 25. listopadu roku 133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rakouská, štýrská, korutanská a kraňská vévodkyně, tyrolská hraběnka a braniborská markraběn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ovdána za rakouského vévodu Rudolfa IV., poté za Otu V. Bavorské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akonec opět ovdově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404640"/>
            <a:ext cx="111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 Karla IV. a Anny Falc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Měl si vzít Annu Svídnic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Václav však umírá ve dvou le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Annu Svídnickou si tak vezme sám Karel IV.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vévodkyně rakouská, štýrská, korutanská a kraň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 Karla IV. a Anny Svídnic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vní manželka Habsburka Albrechta I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mírá bezdětná v 15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13720" y="3860640"/>
            <a:ext cx="230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* 1361 - 141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Český (1363) a římský král (137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yn Karla IV. a Anny Svídnické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Měl dvě manželky Johannu a Žofii Bavorskou, přesto nezplodil dědic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Záliba v módním oblékání výstředních barev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labý král, samotář a vášnivý lovec, holdoval alkoholu - přídomek „Líný“ nebo také „Opilec“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"/>
          <p:cNvPicPr/>
          <p:nvPr/>
        </p:nvPicPr>
        <p:blipFill>
          <a:blip r:embed="rId1"/>
          <a:stretch/>
        </p:blipFill>
        <p:spPr>
          <a:xfrm>
            <a:off x="7502400" y="246240"/>
            <a:ext cx="1641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na „Česká“ („Good Queen Ann“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glická královna, krásná a laskav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a angl. krále Richarda II. Plantagen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eměla dě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íky ní zesílily vzájemné kontakty mezi Anglií a Českým království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na m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393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ikmund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elmi vzdělaný, mluvil 7 jazyky, velmi společenský a měl zálibu v rytířských turnají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 Čechách neoblíbený kvůli Janu Hus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Liška ryšavá“- kvůli zrzavým vlasům a řádu „Draka“ (odměňoval své věrné stoupenc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Hlavním cílem byla reforma církve a odstranění papežského schiz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e, jen dcera Alžběta Lucembursk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44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Jan Zhořelec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Od otce dostal jako samostatné vévodství Zhořele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Pomáhal nevlastnímu bratrovi Václavu IV. proti šlechtě i proti vlastnímu bratrovi Zikmund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 nečekaně v klášteře ve spán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yl ženatý s Kateřinou Švédsk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56:45Z</dcterms:modified>
  <cp:revision>42</cp:revision>
  <dc:subject/>
  <dc:title>Prezentace aplikace PowerPoint</dc:title>
</cp:coreProperties>
</file>