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E584C-59F6-498B-BF9E-0A00AB54E6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stěnná malba, kaple sv. Kateřiny na Karlštejně (kolem 135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77192-2365-4FFA-B4F4-3A1FA938C5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9055-E5CC-4DAF-868C-4DE3BFDDA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999E-9779-4262-BB82-C5E8463C5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5B16-503B-42E6-922C-B840C4C94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7A4D-B53D-48A6-ABBF-B3F18B8C9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A745-B82B-4BE3-AFC1-4E84EF5CB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A4E8-6404-40BC-BE66-C5B2BAE4F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A5BD-3806-4F87-9B36-875CEA42C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8ACA-F3E5-49A7-B2B3-12273D0ED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C170-BF3F-4F7A-9140-2D570F77F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808F-1AC0-4BB4-A1B1-9416F5A0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E908-3F65-4032-BF4B-A3723A293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77D5-2218-4052-8790-1A2DE873F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90C9E-4C9D-4FE4-8211-D32B2A977EB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img.radio.cz/pictures/historie/karel_iv_vaclav_iv_francie3x.jpg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upload.wikimedia.org/wikipedia/commons/b/bd/Karolus_Moravius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upload.wikimedia.org/wikipedia/commons/8/87/Karl_IV_Blanca_Valois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upload.wikimedia.org/wikipedia/commons/thumb/4/47/Busta_Karel_IV.jpg/615px-Busta_Karel_IV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s://upload.wikimedia.org/wikipedia/commons/a/ab/Karl_Fourth_Bohemia_Anna_Schweidnitz.jpe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upload.wikimedia.org/wikipedia/commons/1/16/Charles_IV-John_Ocko_votive_picture-fragment.jpg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s://upload.wikimedia.org/wikipedia/commons/c/c7/Kaja4Gelnhausenkodex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upload.wikimedia.org/wikipedia/commons/9/96/Karolus_rim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3328920"/>
            <a:ext cx="84978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Century Gothic"/>
              </a:rPr>
              <a:t>VYOBRAZENÍ KARLA IV.  </a:t>
            </a:r>
            <a:br>
              <a:rPr sz="4800"/>
            </a:br>
            <a:r>
              <a:rPr b="1" lang="cs-CZ" sz="3500" spc="-1" strike="noStrike">
                <a:solidFill>
                  <a:srgbClr val="000000"/>
                </a:solidFill>
                <a:latin typeface="Century Gothic"/>
              </a:rPr>
              <a:t>ODKAZ OTCE VLASTI </a:t>
            </a:r>
            <a:br>
              <a:rPr sz="4800"/>
            </a:b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Mgr. Pavel Vaníče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5732640"/>
            <a:ext cx="9144000" cy="105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98989"/>
                </a:solidFill>
                <a:latin typeface="Calibri"/>
              </a:rPr>
              <a:t>Materiál je součástí projektu „Odkaz Otce vlasti“ a je prostřednictvím „Programu na podporu činnosti nestátních neziskových organizací působících v oblasti předškolního, základního a středního vzdělávání v roce 2016“ spolufinancován MŠM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Users\PC01\Desktop\mej\2012 2013\propagace\new logo\LOGO jpg.jpg"/>
          <p:cNvPicPr/>
          <p:nvPr/>
        </p:nvPicPr>
        <p:blipFill>
          <a:blip r:embed="rId1"/>
          <a:stretch/>
        </p:blipFill>
        <p:spPr>
          <a:xfrm>
            <a:off x="395280" y="260280"/>
            <a:ext cx="1865160" cy="2070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http://www.nicm.cz/files/user-126/msmt_logo_0.jpg"/>
          <p:cNvPicPr/>
          <p:nvPr/>
        </p:nvPicPr>
        <p:blipFill>
          <a:blip r:embed="rId2"/>
          <a:stretch/>
        </p:blipFill>
        <p:spPr>
          <a:xfrm>
            <a:off x="4284720" y="333360"/>
            <a:ext cx="432576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VÁCLAV IV., KAREL IV. A JOŠ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https://upload.wikimedia.org/wikipedia/commons/thumb/9/99/Wenceslaus_IV%2C_Charles_IV%2C_Jobst_of_Moravia.jpg/800px-Wenceslaus_IV%2C_Charles_IV%2C_Jobst_of_Moravia.jpg"/>
          <p:cNvPicPr/>
          <p:nvPr/>
        </p:nvPicPr>
        <p:blipFill>
          <a:blip r:embed="rId2"/>
          <a:stretch/>
        </p:blipFill>
        <p:spPr>
          <a:xfrm>
            <a:off x="1332000" y="1598760"/>
            <a:ext cx="64800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KARLOVA CESTA DO FRANC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Výsledek obrázku pro OBRAZ KARLA IV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1773360"/>
            <a:ext cx="84042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NA CESTĚ DO FRANC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Karel IV se synem Václavem na cest&amp;ecaron; do Francie"/>
          <p:cNvPicPr/>
          <p:nvPr/>
        </p:nvPicPr>
        <p:blipFill>
          <a:blip r:embed="rId2"/>
          <a:stretch/>
        </p:blipFill>
        <p:spPr>
          <a:xfrm>
            <a:off x="108000" y="2428920"/>
            <a:ext cx="2735280" cy="3462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Karel IV se synem Václavem na cest&amp;ecaron; do Francie"/>
          <p:cNvPicPr/>
          <p:nvPr/>
        </p:nvPicPr>
        <p:blipFill>
          <a:blip r:embed="rId3"/>
          <a:stretch/>
        </p:blipFill>
        <p:spPr>
          <a:xfrm>
            <a:off x="6041880" y="2432160"/>
            <a:ext cx="3102120" cy="3384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Karel IV se synem Václavem na cest&amp;ecaron; do Francie"/>
          <p:cNvPicPr/>
          <p:nvPr/>
        </p:nvPicPr>
        <p:blipFill>
          <a:blip r:embed="rId4"/>
          <a:stretch/>
        </p:blipFill>
        <p:spPr>
          <a:xfrm>
            <a:off x="2987640" y="2557440"/>
            <a:ext cx="297828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CÍSAŘ KAREL VJÍŽDÍ DO CAMBRA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https://upload.wikimedia.org/wikipedia/commons/1/10/Entr%C3%A9e_de_l_empereur_Charles_IV_%C3%A0_Cambrai.jpg"/>
          <p:cNvPicPr/>
          <p:nvPr/>
        </p:nvPicPr>
        <p:blipFill>
          <a:blip r:embed="rId2"/>
          <a:stretch/>
        </p:blipFill>
        <p:spPr>
          <a:xfrm>
            <a:off x="2411280" y="1484280"/>
            <a:ext cx="4105440" cy="50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CÍSAŘ KAREL IV. A FRANCOUZSKÝ KRÁL KAREL V. VE FRANCII - 137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Zástupný symbol pro obsah 3" descr=""/>
          <p:cNvPicPr/>
          <p:nvPr/>
        </p:nvPicPr>
        <p:blipFill>
          <a:blip r:embed="rId1"/>
          <a:stretch/>
        </p:blipFill>
        <p:spPr>
          <a:xfrm>
            <a:off x="2776680" y="1600200"/>
            <a:ext cx="3590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KAREL JAKO MARKRABĚ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Zástupný symbol pro obsah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28960" y="1600200"/>
            <a:ext cx="1486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KAREL IV. S ŽENOU BLANK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Zástupný symbol pro obsah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1600" y="1600200"/>
            <a:ext cx="3520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KARLOVA BUSTA V TRIFORIU KATEDRÁL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Zástupný symbol pro obsah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55920" y="1965240"/>
            <a:ext cx="3916440" cy="41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KAREL IV. S MANŽELKOU ANNOU POZDVIHUJÍ OSTATKOVÝ KŘÍ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http://www.prazskamincovna.cz/i/F640_Karel_IV_s_manzelkou_B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76360" y="1685880"/>
            <a:ext cx="6359400" cy="47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NA VOTIVNÍM OBRAZU 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JANA OČKA Y VLAŠIM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Zástupný symbol pro obsah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700280"/>
            <a:ext cx="3208680" cy="4525920"/>
          </a:xfrm>
          <a:prstGeom prst="rect">
            <a:avLst/>
          </a:prstGeom>
          <a:ln w="0">
            <a:noFill/>
          </a:ln>
        </p:spPr>
      </p:pic>
      <p:pic>
        <p:nvPicPr>
          <p:cNvPr id="63" name="Zástupný symbol pro obsah 5" descr=""/>
          <p:cNvPicPr/>
          <p:nvPr/>
        </p:nvPicPr>
        <p:blipFill>
          <a:blip r:embed="rId3"/>
          <a:stretch/>
        </p:blipFill>
        <p:spPr>
          <a:xfrm>
            <a:off x="5364000" y="1700280"/>
            <a:ext cx="2367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OSTATKOVÁ SCÉNA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MALBA NA KARLŠTEJNĚ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Ostatková scéna"/>
          <p:cNvPicPr/>
          <p:nvPr/>
        </p:nvPicPr>
        <p:blipFill>
          <a:blip r:embed="rId2"/>
          <a:stretch/>
        </p:blipFill>
        <p:spPr>
          <a:xfrm>
            <a:off x="12600" y="1708200"/>
            <a:ext cx="913140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GELNHAUSENSKÝ KODEX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KAREL JAKO ŘÍMSKÝ CÍSAŘ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Zástupný symbol pro obsah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87640" y="1628640"/>
            <a:ext cx="3235320" cy="43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GELNHAUSENSKÝ KODEX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KAREL JAKO ČESKÝ A ŘÍMSKÝ KRÁ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Zástupný symbol pro obsah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71960" y="1600200"/>
            <a:ext cx="2800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4T08:41:02Z</dcterms:created>
  <dc:creator>PC01</dc:creator>
  <dc:description/>
  <dc:language>en-US</dc:language>
  <cp:lastModifiedBy>vanicek</cp:lastModifiedBy>
  <dcterms:modified xsi:type="dcterms:W3CDTF">2016-12-14T19:49:36Z</dcterms:modified>
  <cp:revision>34</cp:revision>
  <dc:subject/>
  <dc:title>Prezentace aplikace PowerPoint</dc:title>
</cp:coreProperties>
</file>