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E0D-819D-4936-A69B-7AB47FD5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098-C032-4311-91DC-4F753EDE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56F-B66B-4049-950D-BE58F01B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D70-676C-4AAE-AA3B-4677818A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C08-29FD-4F77-B857-307230F4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94E-F1CA-48AA-B829-72EE88E5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2BA-540A-4075-BFBD-C595FFBC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0E7-BC16-43A2-8903-36535C24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4F5-B6DA-4EB8-ADAE-28E51C5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231-E76C-46F4-A1CC-F3C8182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99B-7C16-4EAE-A2F7-1C0912BC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318-508E-4271-AAC3-169A785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605E-43B1-47D1-B9EA-800CF522B8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3/Busta_Blanka_z_Valois.jpg/1024px-Busta_Blanka_z_Valoi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ANŽELKY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Blanka z Valo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cera Karla z Valois a sestra budoucího krále Filipa VI. Z Valois (králem Francie 1328 - 135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oněmecká královna a moravská markraběn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bylo oběma 7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svatbě byli odděleni, setkávají se v 15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luboký citový vz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o krátké nemoci ve věku 32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 pochována v chrámu sv. Víta na Pražském hrad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83664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Fal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á král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jím prastrýcem byl Jindřich Korutansk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ískal území Horního Falce, výborný politický 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neměl o Annu velký záj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írá ve 24 letech, pravděpodobně žalem po synovi Václavovi (zemřel ve dvou letech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alší verze její smrti byl pád z kon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Václav (zemřel ve věku necelých dvou let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ástupný symbol pro obsah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263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Svídni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3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, římská královna a římská císařov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Nejkrásnější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žena v Evropě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ůvodní snoubenka Karlova zemřelého sy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teprve 13 let (Karlovi 37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ři porodu i s novorozencem ve věku 23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o ní mluvil jako o „nejdražší cho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její smrti také velmi truchl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lžběta, Václav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3038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Pomořan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599840"/>
            <a:ext cx="878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4. manželka Karla IV., též známá jako Eliš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nučka polského krále Kazimíra Velikéh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 a římská císař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16 let (Karlovi už 47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Rázná, neústupná a sebevědomá žena, vynikala velkou fyzickou sílou (lámala podkovy a ohýbala železo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s ní oženil z diplomatických důvo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armonické manžel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žila Karla o 15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a pochována v katedrále svatého Víta po boku Kar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nna (anglická královna), Zikmund, Jan Zhoř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18:39Z</dcterms:modified>
  <cp:revision>35</cp:revision>
  <dc:subject/>
  <dc:title>Prezentace aplikace PowerPoint</dc:title>
</cp:coreProperties>
</file>