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FC0B-6CA7-4B63-B3FB-AAE838CE9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stěnná malba, kaple sv. Kateřiny na Karlštejně (kolem 13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6554-0D86-4A16-B0D0-F70CFAC2827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7C7-D007-4D8D-B189-EB5AD256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6CE-82CD-4D48-98A8-7E3FEA98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765-4DA7-43E3-9E88-74019435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E31-1BE5-4F97-895C-B32FBB72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4755-596E-4045-BCC4-C9421C43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7B5-A9C3-481B-A86A-FB177606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C77-5FC4-4407-92F3-8F715A7B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6CB-00C5-4046-BD82-F1597FA9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627-7976-414A-990E-B21D3787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CD42-BAEA-414A-B70B-BBDD7A15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090-BDE5-4B63-A5F5-721FF94B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944-1B83-4664-8372-1192D0DD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C612-F436-4184-BCFC-5602D852F7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MUŽ MNOHA TVÁŘÍ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LITERÁ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Zástupný symbol pro obsah 4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3706920" cy="2423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IV. napsal latinsky svůj životopis - Vita Carol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e spisu dává také rady budoucím vladařům a pokolení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epsal úvahy, jak se má chovat správný křesťan, zejména, je-li panovník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etvořil i legendu o svatém Václav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DIPLO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Zástupný symbol pro obsah 4" descr=""/>
          <p:cNvPicPr/>
          <p:nvPr/>
        </p:nvPicPr>
        <p:blipFill>
          <a:blip r:embed="rId1"/>
          <a:stretch/>
        </p:blipFill>
        <p:spPr>
          <a:xfrm>
            <a:off x="966960" y="1957320"/>
            <a:ext cx="3019320" cy="3810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ěhem svého života a vlády se Karel snažil řešit problémy diplomatickou cesto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Této Karlovy skvělé vlastnosti si všimli už jeho současní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Ale když bylo potřeba, dokázal zařinčet i zbraněmi a použít meče či nátla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CESTOVAT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4" descr=""/>
          <p:cNvPicPr/>
          <p:nvPr/>
        </p:nvPicPr>
        <p:blipFill>
          <a:blip r:embed="rId1"/>
          <a:stretch/>
        </p:blipFill>
        <p:spPr>
          <a:xfrm>
            <a:off x="681120" y="1600200"/>
            <a:ext cx="35910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již od mládí trávil mnoho času v sedle doprovázen družinou nebo dvorem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avštívil většinu evropských zemí a zanechal tam svoji sto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vakrát byl v Řím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kušenosti získané v zahraničí přenášel do našich zem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ovéPole 5"/>
          <p:cNvSpPr/>
          <p:nvPr/>
        </p:nvSpPr>
        <p:spPr>
          <a:xfrm>
            <a:off x="611280" y="62704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A NÁVŠTĚVĚ VE FRANC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LADÍ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3" descr=""/>
          <p:cNvPicPr/>
          <p:nvPr/>
        </p:nvPicPr>
        <p:blipFill>
          <a:blip r:embed="rId1"/>
          <a:stretch/>
        </p:blipFill>
        <p:spPr>
          <a:xfrm>
            <a:off x="1733400" y="1600200"/>
            <a:ext cx="14860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rožíval bouřlivé mládí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Itálii si užíval života plnými doušk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Ale jak sám píše, varován ve snu příhodou hraběte z Vienne (přišel o úd), vnitřně  se obrátil a opustil „bohémský“ přístup k život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RYTÍ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ástupný symbol pro obsah 1" descr=""/>
          <p:cNvPicPr/>
          <p:nvPr/>
        </p:nvPicPr>
        <p:blipFill>
          <a:blip r:embed="rId1"/>
          <a:stretch/>
        </p:blipFill>
        <p:spPr>
          <a:xfrm>
            <a:off x="457200" y="2155680"/>
            <a:ext cx="4038480" cy="341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 rytířským otcem Janem rozhodně nezaostal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16 letech svedl první vítěznou bitvu u San Felice, kde byl pasován i na rytíř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také milovníkem rytířských turnajů, při jednom z nich se zřejmě vážně zran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otcem bojoval u Kresča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INTELEKTUÁ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ástupný symbol pro obsah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mládí byl vychováván ve Franci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Měl výjimečné vzdělání na tehdejší dob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Uměl číst i psá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Mluvil pěti jazyky: česky, francouzsky, latinsky, italsky, německ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il v Praze vysoké učen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BOŽNÝ ČLOVĚ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/>
          <p:cNvPicPr/>
          <p:nvPr/>
        </p:nvPicPr>
        <p:blipFill>
          <a:blip r:embed="rId1"/>
          <a:stretch/>
        </p:blipFill>
        <p:spPr>
          <a:xfrm>
            <a:off x="1008000" y="1440000"/>
            <a:ext cx="2087640" cy="2944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byl hluboce věřící člověk a svoji vládu provázal s vírou a zbožnost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ochráncem círk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polupracoval s papež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tal se vášnivým sběratelem ostatků svatý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prazskamincovna.cz/i/F640_Karel_IV_s_manzelkou_B.jpg"/>
          <p:cNvPicPr/>
          <p:nvPr/>
        </p:nvPicPr>
        <p:blipFill>
          <a:blip r:embed="rId2"/>
          <a:stretch/>
        </p:blipFill>
        <p:spPr>
          <a:xfrm>
            <a:off x="549360" y="4573440"/>
            <a:ext cx="302400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AKLADAT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Zástupný symbol pro obsah 4" descr=""/>
          <p:cNvPicPr/>
          <p:nvPr/>
        </p:nvPicPr>
        <p:blipFill>
          <a:blip r:embed="rId1"/>
          <a:stretch/>
        </p:blipFill>
        <p:spPr>
          <a:xfrm>
            <a:off x="198360" y="1484280"/>
            <a:ext cx="3456000" cy="2305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založil hrad Karlštejn, Nové Město pražské, klášter Na Slovanech, Kamenný most, vysoké učení, Hladovou zeď, lázně, mnoho kostelů a hradů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Zástupný symbol pro obsah 5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3168720" cy="280692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8" descr=""/>
          <p:cNvPicPr/>
          <p:nvPr/>
        </p:nvPicPr>
        <p:blipFill>
          <a:blip r:embed="rId3"/>
          <a:stretch/>
        </p:blipFill>
        <p:spPr>
          <a:xfrm>
            <a:off x="3492360" y="5013360"/>
            <a:ext cx="2303640" cy="153504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9" descr=""/>
          <p:cNvPicPr/>
          <p:nvPr/>
        </p:nvPicPr>
        <p:blipFill>
          <a:blip r:embed="rId4"/>
          <a:stretch/>
        </p:blipFill>
        <p:spPr>
          <a:xfrm>
            <a:off x="6084720" y="5070600"/>
            <a:ext cx="29530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HOSPODÁ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Zástupný symbol pro obsah 4" descr=""/>
          <p:cNvPicPr/>
          <p:nvPr/>
        </p:nvPicPr>
        <p:blipFill>
          <a:blip r:embed="rId1"/>
          <a:stretch/>
        </p:blipFill>
        <p:spPr>
          <a:xfrm>
            <a:off x="933480" y="1600200"/>
            <a:ext cx="308592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Karel se staral o bezpečnost v ze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Podporoval města, obchod a rozvoj komunikac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Nechal dovézt nové vinné odrůdy, ovocné stromy a nové druhy ry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ECENÁ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ako mecenáš umění inspiroval vznik řady významných uměleckých dě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apříklad v kapli svatého Kříže na Karlštejně vzniklo díky jeho podpoře129 obrazů Mistra Theodori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Zástupný symbol pro obsah 6" descr=""/>
          <p:cNvPicPr/>
          <p:nvPr/>
        </p:nvPicPr>
        <p:blipFill>
          <a:blip r:embed="rId1"/>
          <a:stretch/>
        </p:blipFill>
        <p:spPr>
          <a:xfrm>
            <a:off x="825480" y="2046240"/>
            <a:ext cx="330192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STÁTNÍ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Zástupný symbol pro obsah 4" descr=""/>
          <p:cNvPicPr/>
          <p:nvPr/>
        </p:nvPicPr>
        <p:blipFill>
          <a:blip r:embed="rId1"/>
          <a:stretch/>
        </p:blipFill>
        <p:spPr>
          <a:xfrm>
            <a:off x="457200" y="2227320"/>
            <a:ext cx="4038480" cy="3271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vytvořil soustátí Země Koruny české (Čechy, Morava, Slezsko, Lužice a zahraniční léna české koruny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echal zhotovit korunovační klenoty a korunovační řá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ydal listinu Zlatou bulu Karla IV. jako ústavu Svaté říše římské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0:19:43Z</dcterms:modified>
  <cp:revision>46</cp:revision>
  <dc:subject/>
  <dc:title>Prezentace aplikace PowerPoint</dc:title>
</cp:coreProperties>
</file>