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3B2-268C-4CF6-B5F9-E3F815D4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9C1-92C5-4A72-8EAF-60F8EAC3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C08-19CA-48F4-BF9F-C9F124DF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29D-4B8F-41E6-A43D-242819A2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B78-AF75-4875-9CA8-36BD4DA7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273-1BE0-4601-849B-961218AF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47E-E642-4994-B8CE-72E1E46E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68B-0FD8-492C-9509-B51B2046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9EF-34D8-492F-84E4-F5B552D3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561-465E-4FAD-AEDB-6B919856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5BD-AB5C-4F0E-ADF9-9062FCAE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A8A-CEF5-48CE-A2C9-A3C5EA12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DC26-F84B-447F-9068-EDC60E22D0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ÝZNAMNÁ ŽIVOTNÍ DATA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7 – ČE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1628640"/>
            <a:ext cx="431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avná korunovace Karla a Blanky v Praz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y zhotoveny korunovační klenoty a korunovační řá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aložen klášter Na Slovanech (Emauzský klášter) pro obnovu cyrilometodějské tradice a staroslověnské liturg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 i kostel P. Mar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ázek 5" descr=""/>
          <p:cNvPicPr/>
          <p:nvPr/>
        </p:nvPicPr>
        <p:blipFill>
          <a:blip r:embed="rId1"/>
          <a:stretch/>
        </p:blipFill>
        <p:spPr>
          <a:xfrm>
            <a:off x="5076720" y="4673520"/>
            <a:ext cx="3275280" cy="218448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6" descr=""/>
          <p:cNvPicPr/>
          <p:nvPr/>
        </p:nvPicPr>
        <p:blipFill>
          <a:blip r:embed="rId2"/>
          <a:stretch/>
        </p:blipFill>
        <p:spPr>
          <a:xfrm>
            <a:off x="8078760" y="6480"/>
            <a:ext cx="1047600" cy="1690560"/>
          </a:xfrm>
          <a:prstGeom prst="rect">
            <a:avLst/>
          </a:prstGeom>
          <a:ln w="0">
            <a:noFill/>
          </a:ln>
        </p:spPr>
      </p:pic>
      <p:pic>
        <p:nvPicPr>
          <p:cNvPr id="76" name="Zástupný symbol pro obsah 8" descr=""/>
          <p:cNvPicPr/>
          <p:nvPr/>
        </p:nvPicPr>
        <p:blipFill>
          <a:blip r:embed="rId3"/>
          <a:stretch/>
        </p:blipFill>
        <p:spPr>
          <a:xfrm>
            <a:off x="4694400" y="1773360"/>
            <a:ext cx="40384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8 – ZAKLADATELSKÝ R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tento rok Karel IV.  poukázal, jak mu velmi záleží na Praze jako hlavním městě Zemí Koruny české a reprezentativním sídle římského krá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o: Nové Město pražské, Karlova univerzita, hrad Karlštejn a přestavěn Vyšehra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Zástupný symbol pro obsah 4" descr=""/>
          <p:cNvPicPr/>
          <p:nvPr/>
        </p:nvPicPr>
        <p:blipFill>
          <a:blip r:embed="rId1"/>
          <a:stretch/>
        </p:blipFill>
        <p:spPr>
          <a:xfrm>
            <a:off x="4732200" y="1268280"/>
            <a:ext cx="3780000" cy="263700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5" descr=""/>
          <p:cNvPicPr/>
          <p:nvPr/>
        </p:nvPicPr>
        <p:blipFill>
          <a:blip r:embed="rId2"/>
          <a:stretch/>
        </p:blipFill>
        <p:spPr>
          <a:xfrm>
            <a:off x="5908680" y="4057560"/>
            <a:ext cx="2084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55 – CÍSAŘSKÁ KORUNOV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podnikl i s manželkou Annou Svídnickou korunovační jízdu do Říma, kde byli oba korunováni kardinálem Pierrem de Colombie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ásledujícího roku 1356 vydal pro Říši důležitou listinu: Zlatou bulu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ástupný symbol pro obsah 4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753000" cy="244944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1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23097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61 – NAROZENÍ DĚD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lovi bylo čtyřicet pět let, když se jeho třetí ženě Anně Svídnické narodil vytoužený a vymodlený dědic trůnu -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nešetřil a připravil velké oslavy v jeho oblíbeném Norimber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5270400" y="2808360"/>
            <a:ext cx="27939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78 – ZRANĚNÍ, SM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4839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pádu utrpěl zlomeninu krčku stehenní k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9. listopadu umírá Karel v Praze na zápal plic v šedesáti dvou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pohřební řeči Vojtěch Raňkův z Ježova označil Karla za „OTCE VLAS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5. prosince je Karel pohřben v královské hrobce v chrámu sv. Ví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ástupný symbol pro obsah 4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16 – ROK NARO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áclav (Karel) se narodil 14. května 1316 v Praze v domě u Kamenného zvonu na Staroměstském náměstí mladému královskému páru Elišce Přemyslovně a Janu Lucemburském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Zástupný symbol pro obsah 6" descr=""/>
          <p:cNvPicPr/>
          <p:nvPr/>
        </p:nvPicPr>
        <p:blipFill>
          <a:blip r:embed="rId1"/>
          <a:stretch/>
        </p:blipFill>
        <p:spPr>
          <a:xfrm>
            <a:off x="4971960" y="1600200"/>
            <a:ext cx="3390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23 – VÝCHOVA VE FRANC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eprve sedmiletý Václav byl povolán otcem Janem do Paříže na královský dvůr za účelem výchovy a vzdělá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de i oženěn s Blankou z Valoi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biřmování přijal jméno Karel po strýci - francouzském králi Karlu IV. z Valoi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Zástupný symbol pro obsah 4" descr=""/>
          <p:cNvPicPr/>
          <p:nvPr/>
        </p:nvPicPr>
        <p:blipFill>
          <a:blip r:embed="rId1"/>
          <a:stretch/>
        </p:blipFill>
        <p:spPr>
          <a:xfrm>
            <a:off x="478944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1 - ITALSKÉ TAŽ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volán otcem do Itálie, kde Karel získal první bojové zkušenosti a vybojoval i první vítěznou bitvu u San Felice („ u Svaté Štěstěny“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de pasován na rytíř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menován správcem lucemburských drža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ískává i důležité politické zkušen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4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3 – MARKRABĚ MORAV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deseti letech přijíždí zpátky do Čech, ale země se nachází v krizi a úpadku, královské hrady jsou zastavené v rukou šlecht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Energický a ambiciózní Karel se pouští do tvrdé práce, vytváří si dvůr v Praze, dohlíží na bezpečnost a  pořádek v zemi a vykupuje zpět královské hra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4 – PRAŽSKÉ ARCIBISKUPS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íky Karlovým konexím s Pierrem de Rosieres za pobytu v Paříži – nyní papežem Klementem VI. - vzniká v Praze arcibiskup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rvním arcibiskupem byl jmenován Karlův blízký přítel Arnošt z Pardubi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012760" cy="2313000"/>
          </a:xfrm>
          <a:prstGeom prst="rect">
            <a:avLst/>
          </a:prstGeom>
          <a:ln w="0">
            <a:noFill/>
          </a:ln>
        </p:spPr>
      </p:pic>
      <p:pic>
        <p:nvPicPr>
          <p:cNvPr id="60" name="Obrázek 6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267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AVBA KATEDRÁ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916440" cy="412740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2" descr=""/>
          <p:cNvPicPr/>
          <p:nvPr/>
        </p:nvPicPr>
        <p:blipFill>
          <a:blip r:embed="rId2"/>
          <a:stretch/>
        </p:blipFill>
        <p:spPr>
          <a:xfrm>
            <a:off x="4143240" y="3246480"/>
            <a:ext cx="2800440" cy="257004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3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438280" cy="366696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4"/>
          <p:cNvSpPr/>
          <p:nvPr/>
        </p:nvSpPr>
        <p:spPr>
          <a:xfrm>
            <a:off x="4211640" y="609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TYÁŠ Z ARRA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ástupný symbol pro obsah 3" descr=""/>
          <p:cNvPicPr/>
          <p:nvPr/>
        </p:nvPicPr>
        <p:blipFill>
          <a:blip r:embed="rId1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6 – ŘÍM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Lucemburkové triumfují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Jan, příbuzný arcibiskup Balduin Trevírský i papežská kurie dopomohli Karlovi k volbě římským králem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epý král Jan hrdinně padl v krvavé bitvě u Kresčaku dne 26.8. 1346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tak stává i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českým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král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5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438640" cy="2063880"/>
          </a:xfrm>
          <a:prstGeom prst="rect">
            <a:avLst/>
          </a:prstGeom>
          <a:ln w="0">
            <a:noFill/>
          </a:ln>
        </p:spPr>
      </p:pic>
      <p:pic>
        <p:nvPicPr>
          <p:cNvPr id="71" name="Zástupný symbol pro obsah 8" descr=""/>
          <p:cNvPicPr/>
          <p:nvPr/>
        </p:nvPicPr>
        <p:blipFill>
          <a:blip r:embed="rId2"/>
          <a:stretch/>
        </p:blipFill>
        <p:spPr>
          <a:xfrm>
            <a:off x="6372360" y="1600200"/>
            <a:ext cx="1746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02:55Z</dcterms:modified>
  <cp:revision>52</cp:revision>
  <dc:subject/>
  <dc:title>Prezentace aplikace PowerPoint</dc:title>
</cp:coreProperties>
</file>