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50B-B5C6-48FB-B6DB-C70E8D12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A5E-68FC-4BE4-85C5-E7324577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877-380F-4017-8B78-9D9905E5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A45-5231-49D5-84AD-02823C20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8E3-9934-4D7F-9572-46CF2D4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304-D0B7-4DEE-A4F2-EF44F591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CA0-E927-4AC4-83DB-95D04896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F7D-F53E-4EDA-8E21-D6989B9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46A-B23E-4192-8B9F-B4FF57B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453-B846-45BE-8F36-F23A2A7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C93-DAC7-4F2C-8AE5-A287795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359-83C4-4C14-9B22-42DED93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ED5-DFA0-4FE7-8347-F3072C336A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3/Busta_Blanka_z_Valois.jpg/1024px-Busta_Blanka_z_Valo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ANŽELKY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Blanka z Val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cera Karla z Valois a sestra budoucího krále Filipa VI. Z Valois (králem Francie 1328 - 135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oněmecká královna a moravská markraběn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bylo oběma 7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svatbě byli odděleni, setkávají se v 15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luboký citový vz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o krátké nemoci ve věku 32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 pochována v chrámu sv. Víta na Pražském hrad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Fal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á král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jím prastrýcem byl Jindřich Korutansk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ískal území Horního Falce, výborný politický 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neměl o Annu velký záj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írá ve 24 letech, pravděpodobně žalem po synovi Václavovi (zemřel ve dvou letech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alší verze její smrti byl pád z ko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Václav (zemřel ve věku necelých dvou l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63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Svídni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3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, římská královna a římská císařov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Nejkrásnější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žena v Evropě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ůvodní snoubenka Karlova zemřelého sy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teprve 13 let (Karlovi 3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ři porodu i s novorozencem ve věku 23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o ní mluvil jako o „nejdražší cho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její smrti také velmi truchl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lžběta, Václav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38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Pomořan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59984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4. manželka Karla IV., též známá jako Eliš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nučka polského krále Kazimíra Velik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 a římská císař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16 let (Karlovi už 47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Rázná, neústupná a sebevědomá žena, vynikala velkou fyzickou sílou (lámala podkovy a ohýbala železo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s ní oženil z diplomatických důvo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armonické manžel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žila Karla o 15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a pochována v katedrále svatého Víta po boku Kar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nna (anglická královna), Zikmund, Jan Zhoř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18:39Z</dcterms:modified>
  <cp:revision>35</cp:revision>
  <dc:subject/>
  <dc:title>Prezentace aplikace PowerPoint</dc:title>
</cp:coreProperties>
</file>